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459-2B5E-4F6F-9635-7E9F593B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513-7F39-40C8-BD97-FA67A2D1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150EF-ADA5-4F18-8BE4-1F180804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011DB-A0FC-41E3-B825-FAE6BB78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E132B-1B69-4BD6-A33C-7B7A9DE4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D4598-9EFB-4A81-9FF4-ED25FABA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5A44C-C38F-4412-A57D-17584444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B079C-CD09-4849-B02A-3B8DA5B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F2F79-DF1C-4E99-9C45-6CAF2419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07CC-55F1-4273-90E8-F5D60333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A12E7-FB41-4431-BD36-38649DBD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2C010-A93E-4A44-9E5F-FFC577C9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107-AA94-4C48-9BC6-2DA4C153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CB8FF-E582-4D0C-AC5D-E15E09D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488F5-DDD2-4813-894D-023D8C92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06F22-D8FC-4866-AD4E-4BE457FE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9536B-55BF-41F9-B369-7942B195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DBA64-2B33-4049-B8F1-AFA8BB06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6C042-0EF2-4C0F-BF71-B4A3EB1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7101C-AEDB-4777-97B8-FB91422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C92EE-F9E5-4CAA-8A9B-8B9EF08C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6A077-1E59-449A-8FAC-96329019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8299D-8CD6-47F6-9D04-CC3C7CD6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21A-EFE8-48DC-943B-FAABC58D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41169-9CFA-4AF2-AF79-A3CCC482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96A91-D073-4036-876A-FF8619B7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F5636-8902-4D00-8AF5-350509FF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A8776-8E87-4347-BCD0-9D68272E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4FFAF-F3BB-4D45-9A00-15C75656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79804-CEDC-44C9-B4EB-97718CB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CDF48-EB79-4CF7-87B1-B213F8F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2E17E-68AD-4537-A9B6-91A88C8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CE68C-7537-4404-B119-9D01E2A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552F5-D8CF-4D07-9CC5-63D0CF90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D737-4BDF-4914-8DC3-2B99DA12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D9439-F54D-4974-A062-4582E47A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BE5E7-C0B0-43BC-B7FC-A985D053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151D2-F2F4-4C5B-BE46-8FA9D33B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A73EC-CCB1-436B-8AE9-7B3D9F6E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18D2C-3AC8-4308-A08E-5BF0D6F8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FC11B-AA79-4313-AD59-41C16C05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E51BE-7B8A-4AC1-81BB-80EDDAFD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2A708-2863-4787-A523-9E4CB667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7E7F0-DE5B-4043-B148-7701A64D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1FA92-CA24-4ABC-9E3B-3D33A1C8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B95-1160-48E1-812B-5C34A82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56B2B-2DD2-4780-96AA-B321145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8A6EA-9924-4885-99B0-10C1AD7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F3829-ED03-4285-9CB3-C55DA6E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057D9-0434-40AC-AAA4-2728F1EF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AF1F5-D8F0-4214-83A7-97BC8582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F3AD9-67AF-477D-AFEE-12DFD4D9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D73B7-B052-45B5-8DCF-621938D9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6045C-04F7-461F-8CB9-DD863F5A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FAC01-AC43-4967-8754-46A7108F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EB28A-635B-4A60-B6ED-4227985B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689A-F61E-425D-9E88-76587C07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A4AA7-D859-4A36-BB7A-62A5A288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99AD7-2966-4A0A-A0BB-5BDBAD92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4801C-6873-4443-9A97-783A166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6E35F-3113-4774-A3C7-7E94BCC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12403-6B88-49D3-B055-87AB7B2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F5DBE-2C58-4DF3-A687-FB1D7918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CFEAD-E738-4679-8791-0EC05837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986D-C462-4005-8E7D-91880282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303D-4306-4460-BA45-2BD15A88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9F6-3470-4925-A96D-99C3F2BA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D554-4A80-4DB0-BAD3-5FD8FD22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FE3-1C63-49EE-82B0-46069758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68B-F223-4FF0-A034-E9273C8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4E8A-0A05-4A39-82EB-57F5E29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B370-959D-4035-A755-E4F0A7E3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5AB9-27A3-42FB-9BC7-18C082D5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A1C7-0F9B-4F81-A3DD-0D0DCCE3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9A20-9287-4274-A9C3-922D2DA3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A93E0-A92A-497E-A637-E5F206E8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968E-4D25-48CF-B8A5-86EE87BA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833B-686A-4225-954F-DD442C76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AF91-F37D-4C98-A9ED-CFAA0503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F6F-3179-4B32-BBF7-6577E710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9783-9D76-4F0C-8F8D-6DCAC51F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2E49-F886-4434-A314-991EF91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2001-E3A3-4CBB-BF84-6FDFF71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CB07-10C6-47F0-89F2-666A6BAD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6753-C35B-4770-A2DC-1B9A6A53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9741-08FD-4B31-862A-B6B42877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949D-2A17-4487-A580-75CA95ED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B4E4-75AE-4915-9CAE-AB31D74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7887F-0320-4E30-84B7-B34FB17A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42B7-1195-4626-B374-AFF03CE6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EE3-A967-444A-BEF1-34BA6655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CA455-4A3E-421B-9B98-C8CE32E0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0596-D076-4A59-9743-48C99ABF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8B44-0C7A-4A7B-BDB0-E44415FE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600E-58B9-40BF-B950-5214CB8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5166-D784-4427-AF9A-C90A7F08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1330-DAF8-4C1E-893E-52BB3C7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EED6-C999-40AF-AA31-345EFD42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C2257-1F32-411C-8C18-0DFD76BE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0AA5-F484-4D4C-BAA8-08304C52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8153-D17C-4926-ADCF-E2220806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D77-F1C3-42FB-94BE-6C32CA91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F3980-3E2A-4F15-ACE7-BBB4EBCF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762A-C94F-449C-BEAB-D0CCF0A5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10B0-1368-43C1-B611-21BF5AA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507B6-AF16-4628-9583-86D91B59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808B-3736-4FA9-8D98-44D38AB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D8FA-FEAD-43AD-8F39-7507686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675C-BB86-46CA-A7C3-0368B9E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4B335-BB88-40A1-97D8-972DA04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99927-2699-4CF7-B747-5C466E55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92F5-0104-4564-BC37-ECE5FACE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999-0572-43E6-8CCE-0F640FEA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9515-86BB-4248-8B01-C7D48614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00B7F-3721-4850-B071-87E52F4D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43BA7-2DD2-48CE-8E91-30B6E2B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98C6E-7449-4AC2-BD1D-ED441F39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27072-5138-4FBE-A02F-4208C6E4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1D39C-BD0A-4918-B9CE-A704492F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CB583-9EBB-4E58-8348-17D7F6C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3834-0FE0-482D-915D-3E49E7E4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7028-C8C6-492E-85BC-6BA799A9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9189-ED07-43C2-8490-29C1B071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027-2D22-40B0-89B3-34C424D5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231FA-8DFB-49D5-B17C-F7B1B6BD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DB07-DE46-4482-8C58-052E9B78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042FC-A01A-4793-A09A-C18EF0B4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B5892-DB93-4991-95A6-BFDB933E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130E8-C81C-4ED3-B354-AD07DCB7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BE27-4DB5-4EBF-B16B-5C977E8F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AEAE-A3F5-4D54-BCAA-B1FF86AF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FC448-CFA5-4EE5-A198-25BCF95F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F0962-55DE-4645-B36C-42F66FEB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8045-80DE-4000-B34C-EFF088C9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DB8-5CD5-4F6F-B736-CEB7FAD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24B1-7E9A-4385-A1E9-AE021FC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4DEBE-68ED-446F-974D-3A07545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54B76-D482-4625-8C49-EE3DA027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BA22-B899-4791-B43A-B30ACF9E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CE69-BF4E-41D0-8394-30964F00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71A94-A54D-4B57-85DB-DE66A468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910E2-DA9C-4EA9-9AA7-C3E55BE3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7D82D-D16E-41E8-85EF-49D4483F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E9BA6-428A-4A0A-992F-5FA86687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CF1C6-8D65-415C-8BD5-D6B5F18D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36B-FDB5-4C51-AE23-2E31726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9C9C2-1469-45C3-A343-14D1F62C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837A4-D460-408C-93C4-086FE0E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40A15-63A4-4EF2-BDB7-291AEDAB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3E817-5568-4C7B-89D7-10FD2FE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5255-2A79-4C42-83E1-98A364DF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92BFE-AB0C-44F4-893C-9CB341C5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01B0D-3DFD-4C6A-8040-8C1B5519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1C334-D1E0-40AF-937D-34A433B2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53CC8-7CAA-4347-B72E-0ACE71FA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99F4D-C6C2-4F6A-B90A-BC4BAD6F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534CA-A1BD-4138-B3ED-E8A479C86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20720" y="684000"/>
            <a:ext cx="84549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20720" y="1949040"/>
            <a:ext cx="885024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39280" y="631800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267000" y="6346440"/>
            <a:ext cx="3191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30640" y="6346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22334-8E66-42F7-A2AD-01B793553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20720" y="684000"/>
            <a:ext cx="84549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20720" y="1949040"/>
            <a:ext cx="885024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39280" y="631800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267000" y="6346440"/>
            <a:ext cx="3191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830640" y="6346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176CE-8C75-49E1-BDF5-B7F966BC6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76360" y="6527520"/>
            <a:ext cx="2342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7720" y="6527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155000" y="6527520"/>
            <a:ext cx="2342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DD847-2699-4054-A7C6-D3543CC7AF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B9CC2-5C2A-4218-8525-BC362BB92B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28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2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454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454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54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D8F12-C3B7-429E-B49C-50A2798B1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7280" y="1912680"/>
            <a:ext cx="8667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1100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5500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7DE49-397B-4CA6-BD17-50B507440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720360"/>
            <a:ext cx="8272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244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7ED25-8F58-47FA-838E-7ABA14C7A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B28DE-9A10-44E1-AFF1-42AA1187A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791640"/>
            <a:ext cx="90630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3280" y="537480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7720" y="537480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537480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B7A79-7A98-4EC6-8A52-4F9FA49CD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470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12720" y="6562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55720" y="6562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335720" y="6562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1D422-4C42-4AC7-A342-B861BB079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3280" y="6670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7720" y="6670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670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65A1C-CF1F-44F1-A8CC-53A013F46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0FC74-7C07-4506-BB26-1736ECDDB1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ytime.com/" TargetMode="External"/><Relationship Id="rId3" Type="http://schemas.openxmlformats.org/officeDocument/2006/relationships/hyperlink" Target="http://magazines.scholastic.com/election-2012" TargetMode="External"/><Relationship Id="rId4" Type="http://schemas.openxmlformats.org/officeDocument/2006/relationships/hyperlink" Target="http://magazines.scholastic.com/election-2012" TargetMode="External"/><Relationship Id="rId5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7772400" y="4572000"/>
            <a:ext cx="1828800" cy="25146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200400" y="457200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urlz MT"/>
              </a:rPr>
              <a:t>by:Stanl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343240" y="2057400"/>
            <a:ext cx="474336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21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2012 Presidential Election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50" fill="hold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 fill="hold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50" fill="hold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03280" y="-92160"/>
            <a:ext cx="907092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urlz MT"/>
                <a:ea typeface="Arial Unicode MS"/>
              </a:rPr>
              <a:t>Economy and jobs</a:t>
            </a:r>
            <a:r>
              <a:rPr b="1" lang="en-US" sz="5400" spc="-1" strike="noStrike">
                <a:solidFill>
                  <a:srgbClr val="000080"/>
                </a:solidFill>
                <a:latin typeface="Blackadder ITC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14400" y="2278080"/>
            <a:ext cx="36576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he help continue to work on growing the U.S. Private job market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1600200"/>
            <a:ext cx="442584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Arial Unicode MS"/>
              </a:rPr>
              <a:t>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75360" y="1600200"/>
            <a:ext cx="442584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Mitt Rom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2514600"/>
            <a:ext cx="3657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Help lift federal regulation on business to promote economic growth and retrain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8001000" y="52578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463320"/>
            <a:ext cx="907092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urlz MT"/>
              </a:rPr>
              <a:t>Healthcare</a:t>
            </a: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2286000"/>
            <a:ext cx="36576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972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urlz MT"/>
              </a:rPr>
              <a:t>Ob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urlz MT"/>
              </a:rPr>
              <a:t>For the affordable care act,asserting that it will protect people from bad insur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862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Mitt Rom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Believes the federal government  have a  heavy hand in health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2514600"/>
            <a:ext cx="3657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772400" y="4572000"/>
            <a:ext cx="1828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2760" y="4302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urlz MT"/>
              </a:rPr>
              <a:t>Tax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Oba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Continue providing tax relief to small businesses to stimulate local job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Mitt Rom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Retrain workers, particularly unemployed individual encourage more free trade  to grow Amer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8458200" y="5029200"/>
            <a:ext cx="11430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240" y="4302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urlz MT"/>
              </a:rPr>
              <a:t>War and National Defens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74760" y="1828440"/>
            <a:ext cx="44258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Continue focusing on defeating Alfreda in Afghanistan and 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257800" y="1828440"/>
            <a:ext cx="44258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Mitt Romn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Assess America military presence Afghanistan   and determine whether troops can be with dr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7772400" y="4572000"/>
            <a:ext cx="1828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2016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urlz MT"/>
              </a:rPr>
              <a:t>Educ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258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Oba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Continue to encourage education reform through the race to the top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75360" y="1599840"/>
            <a:ext cx="442584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Mitt Romn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Shift some power from the federal level to empower governors to reform edu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7772400" y="4572000"/>
            <a:ext cx="1828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1360" y="4302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urlz MT"/>
              </a:rPr>
              <a:t>Immigr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74760" y="1599840"/>
            <a:ext cx="442584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</a:rPr>
              <a:t>Support the dream act a bill that would allow responsible young immigrants who came to the U.S. Illegally</a:t>
            </a: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29200" y="1674360"/>
            <a:ext cx="442584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Mitt Rom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urlz MT"/>
                <a:ea typeface="SimSun"/>
              </a:rPr>
              <a:t>reform immigration laws to allow more people for highly skilled immigrants for foreign student who obtain skills in math and 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8229600" y="54864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urlz MT"/>
              </a:rPr>
              <a:t>Resour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90709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" y="1857240"/>
            <a:ext cx="91440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ytime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3421080"/>
            <a:ext cx="725004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e love Scholastic News and use the print resources in class and the electronic resources here: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magazines.scholastic.com/election-2012</a:t>
            </a: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43000" y="4800600"/>
            <a:ext cx="300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0880" y="5029200"/>
            <a:ext cx="3006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:</a:t>
            </a:r>
            <a:br>
              <a:rPr sz="12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/>
              </a:rPr>
              <a:t>http://magazines.scholastic.com/election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x+(cos(-2*pi*(1-$))*-#ppt_x-sin(-2*pi*(1-$))*(1-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x+(cos(-2*pi*(1-$))*-#ppt_x-sin(-2*pi*(1-$))*(1-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+(sin(-2*pi*(1-$))*-#ppt_x+cos(-2*pi*(1-$))*(1-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+(sin(-2*pi*(1-$))*-#ppt_x+cos(-2*pi*(1-$))*(1-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4:47:47Z</dcterms:created>
  <dc:creator/>
  <dc:description/>
  <dc:language>en-US</dc:language>
  <cp:lastModifiedBy/>
  <cp:revision>1</cp:revision>
  <dc:subject/>
  <dc:title/>
</cp:coreProperties>
</file>